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24.jpeg" ContentType="image/jpeg"/>
  <Override PartName="/ppt/media/image15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396-7BAA-4D38-BE9A-10D2E14B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BC6-6570-4D14-B4D0-02987A9D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CD04-C85F-417E-B93F-3C047A65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D6C-4EAA-4D9D-A968-52BD613D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0BB5-F4AA-4817-B7E9-AEC228B6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471A-CC9D-4002-865D-3C4165B5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675E-16D2-43E8-A6C7-823D6DF7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AD8D-57B1-4DCC-AB8A-8C69F52F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1259-9684-4C4C-A634-A6596229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2C1F-118D-459D-A329-D7A2318E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58A6-A83E-403D-8A14-4E554732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DD3-7BFE-4EAD-A843-930D5D4F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3BC7-72E1-4D83-8FE1-D0942E2F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2232-5B01-444E-86A3-0710CBA4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9DD7-D0CD-4338-85B0-B286142B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D849-69D4-4366-8E19-8834C43D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5E16-8424-4327-AEE0-155BA020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145-BCF8-411C-AA28-F35BF0F5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8B7A-79E9-4F9D-A9E0-827B2055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F97C-D400-4E90-9E5E-423A8103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4804-0FFC-42FA-B6FD-15A387AF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3FA-430F-4E77-AB10-5C45FEF7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272-376D-494A-ADD3-CA3EAE41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1A4E-6B8B-400E-9C8F-71A0C33F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2FAF-6782-4917-954B-5A9FDBFEE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080E-9789-4935-8EC2-4B95846E9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lobal History &amp; Geography Review – Unit 1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br>
              <a:rPr sz="44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Ancient Civilizations, Religions &amp; Early Empire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2819160"/>
            <a:ext cx="76197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peoples &amp; river civil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al civil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e &amp; fall of Great Emp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ergence and spread of belief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eece (1750 BC – 133 BC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 in mountainous region prevented large empire and led to many city-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cultural diffusion due to sea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y-states (polis) – two most powerful ones were Athens &amp; Spa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hens – birthplace of direct democ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rta - militar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cient Gree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5" name="Picture 4" descr="http://www.shunya.net/Text/Herodotus/images/GreekPoliticalMap.jpg"/>
          <p:cNvPicPr/>
          <p:nvPr/>
        </p:nvPicPr>
        <p:blipFill>
          <a:blip r:embed="rId1"/>
          <a:stretch/>
        </p:blipFill>
        <p:spPr>
          <a:xfrm>
            <a:off x="1828800" y="1828800"/>
            <a:ext cx="60228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lexander the Great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 father conquered Greece in the 300s 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exander build a huge empire that included the Nile Valley, Persia, and parts of In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 Greek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lenistic Culture – blended Greek &amp; Persian, Indian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ultural contributions of Greek &amp; Hellenistic civiliation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ilosophy – Socrates, Plato, Aristo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ture – Comedies &amp; tragedies, poems (Homer), history (Herodot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 &amp; Architecture – Humans portrayed in perfect form, fantastic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ce &amp; Math – Archimedes, Hippocrates, Pythagoras, Euc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ome (509 BC – 476 AD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d on Italian penins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ublic – officials chosen by the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icians (rich) &amp; plebeians (farmer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a huge em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ib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elve Tables of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esque archite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ve roads &amp; tr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-disciplined army, civil servi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x Romana – long period of peace &amp; prospe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ually overrun by foreign inva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jor Belief Syst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143000" y="1600200"/>
          <a:ext cx="7620120" cy="4224240"/>
        </p:xfrm>
        <a:graphic>
          <a:graphicData uri="http://schemas.openxmlformats.org/drawingml/2006/table">
            <a:tbl>
              <a:tblPr/>
              <a:tblGrid>
                <a:gridCol w="2286000"/>
                <a:gridCol w="2793960"/>
                <a:gridCol w="2540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 &amp; Where/W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or concep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imi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of the earliest anyw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a, Ch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ry living &amp; non living thing in nature has a spiri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verence for ances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ndui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 B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incar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ma &amp; Dhar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h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jor Belief Syst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43000" y="1600200"/>
          <a:ext cx="7620120" cy="3565440"/>
        </p:xfrm>
        <a:graphic>
          <a:graphicData uri="http://schemas.openxmlformats.org/drawingml/2006/table">
            <a:tbl>
              <a:tblPr/>
              <a:tblGrid>
                <a:gridCol w="2209680"/>
                <a:gridCol w="2743200"/>
                <a:gridCol w="2667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 &amp; Where/W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or concep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ddhi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B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r Noble Tru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ghtfold Pa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dai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BC – Hebre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braha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othei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Command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jor Belief Syst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43000" y="1600200"/>
          <a:ext cx="7620120" cy="3932280"/>
        </p:xfrm>
        <a:graphic>
          <a:graphicData uri="http://schemas.openxmlformats.org/drawingml/2006/table">
            <a:tbl>
              <a:tblPr/>
              <a:tblGrid>
                <a:gridCol w="2133720"/>
                <a:gridCol w="2946240"/>
                <a:gridCol w="2540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 &amp; Where/W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or concep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ristian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AD – Jes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sus is God the Son, the Messia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othei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l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2 AD – Mohammed in Arab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othei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ve Pil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r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jor Belief Syst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43000" y="1600200"/>
          <a:ext cx="7620120" cy="4516560"/>
        </p:xfrm>
        <a:graphic>
          <a:graphicData uri="http://schemas.openxmlformats.org/drawingml/2006/table">
            <a:tbl>
              <a:tblPr/>
              <a:tblGrid>
                <a:gridCol w="2133720"/>
                <a:gridCol w="2946240"/>
                <a:gridCol w="2540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 &amp; Where/W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or concep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uciani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ucius (551 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Anal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key relationshi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ryone has du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 is key to suc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oi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oz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ace &amp; well being depend on harmony between yin and ya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Gupta of India (320-550 AD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ed much of the Indian subconti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 of peace and prospe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ed by 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d Hindu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t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archal families, arranged marri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ined due to weak rulers and foreign inv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019160" y="121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Gupta Empire"/>
          <p:cNvPicPr/>
          <p:nvPr/>
        </p:nvPicPr>
        <p:blipFill>
          <a:blip r:embed="rId1"/>
          <a:stretch/>
        </p:blipFill>
        <p:spPr>
          <a:xfrm>
            <a:off x="4495680" y="2057400"/>
            <a:ext cx="419112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Early Peoples &amp; River Civilization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people w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unters and gather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meant they liv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mad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olithic Revolution (10,000 BC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ople made permanent settlements, which grew into civil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early civilizations settled along river vall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Gupta of India (320-550 AD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ib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&amp; decim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abic num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bal remedies, surgery, vaccines against small p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utiful te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les, folk 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019160" y="121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Gupta Empire"/>
          <p:cNvPicPr/>
          <p:nvPr/>
        </p:nvPicPr>
        <p:blipFill>
          <a:blip r:embed="rId1"/>
          <a:stretch/>
        </p:blipFill>
        <p:spPr>
          <a:xfrm>
            <a:off x="4495680" y="2057400"/>
            <a:ext cx="419112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http://www.mnsu.edu/emuseum/prehistory/china/images/songmap.gif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2746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 618-1279 AD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ang &amp; Song Dynasties in Chi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had efficient governments where trade flourished and great advances in art, literature, and architecture develo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www.mnsu.edu/emuseum/prehistory/china/images/songmap.gif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27464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 618-1279 AD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ang &amp; Song Dynasties in Chi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ernment corruption led to the decline of the Tang dynasty in 907 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used the civil service system for govt. offic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ct social structure of gentry, peasantry,        merch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www.mnsu.edu/emuseum/prehistory/china/images/songmap.gif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27464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 618-1279 AD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ang &amp; Song Dynasties in Chi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trade expanded to India, Persia, Middle E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uenced 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ibutions included calligraphy, pagoda temple design, porce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Byzantine Empir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Roman empire was divided in the late 200s by Emperor Diocletian, the Emperor Constantine moved the capital to the site of the Greek city of Byzant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8" descr="http://images.google.com/images?q=tbn:aSSWtmY0LHsJ:www.steveaddison.net/wp-content/Emperor%2520Constantine.jpg"/>
          <p:cNvPicPr/>
          <p:nvPr/>
        </p:nvPicPr>
        <p:blipFill>
          <a:blip r:embed="rId1"/>
          <a:stretch/>
        </p:blipFill>
        <p:spPr>
          <a:xfrm>
            <a:off x="5433840" y="2057400"/>
            <a:ext cx="2408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 527 - 1453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Byzantine Empir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1" name="Picture 6" descr="Map of Byzantine Empire."/>
          <p:cNvPicPr/>
          <p:nvPr/>
        </p:nvPicPr>
        <p:blipFill>
          <a:blip r:embed="rId1"/>
          <a:stretch/>
        </p:blipFill>
        <p:spPr>
          <a:xfrm>
            <a:off x="1371600" y="1676520"/>
            <a:ext cx="7064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Byzantine Empir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4419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blend of Greek, Roman, and Christian infl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ened by Crusaders, sacked by Ottomans in 14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ibu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RVED GRECO-ROMAN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inian’s Code of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uenced Russia – written language, religion, autocratic government, art &amp;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http://i-cias.com/e.o/ill/justinian1_01.jpg"/>
          <p:cNvPicPr/>
          <p:nvPr/>
        </p:nvPicPr>
        <p:blipFill>
          <a:blip r:embed="rId1"/>
          <a:stretch/>
        </p:blipFill>
        <p:spPr>
          <a:xfrm>
            <a:off x="5791320" y="1676520"/>
            <a:ext cx="262872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Byzantine Empir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3200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tecture: Church of Hagia Soph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 – Mosa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: Orthodox Christian Church – Great Schism in 10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9" descr="EXTERIOR OF HAGIA SOPHIA"/>
          <p:cNvPicPr/>
          <p:nvPr/>
        </p:nvPicPr>
        <p:blipFill>
          <a:blip r:embed="rId1"/>
          <a:stretch/>
        </p:blipFill>
        <p:spPr>
          <a:xfrm>
            <a:off x="4038480" y="2133720"/>
            <a:ext cx="478944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slamic Civiliz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3657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Mohammed’s death, Islam spread to areas in Europe, Africa, and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lden 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uring the 700s and 800s based on trade, and achievements in the arts &amp; sc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6" descr="http://communities.madison.com/mmdc/pages/images/3365-JAMEEL.gif"/>
          <p:cNvPicPr/>
          <p:nvPr/>
        </p:nvPicPr>
        <p:blipFill>
          <a:blip r:embed="rId1"/>
          <a:stretch/>
        </p:blipFill>
        <p:spPr>
          <a:xfrm>
            <a:off x="4800600" y="2286000"/>
            <a:ext cx="2835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spread of Isl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2" name="Picture 4" descr="http://www.thewhitefathers.org.uk/340ismap.gif"/>
          <p:cNvPicPr/>
          <p:nvPr/>
        </p:nvPicPr>
        <p:blipFill>
          <a:blip r:embed="rId1"/>
          <a:stretch/>
        </p:blipFill>
        <p:spPr>
          <a:xfrm>
            <a:off x="838080" y="1752480"/>
            <a:ext cx="7667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Early Peoples &amp; River Civilization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 of civil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gover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ed 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ads, bridges, public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 &amp;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of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C:\Program Files\Common Files\Microsoft Shared\Clipart\cagcat50\bl00381_.wmf"/>
          <p:cNvPicPr/>
          <p:nvPr/>
        </p:nvPicPr>
        <p:blipFill>
          <a:blip r:embed="rId1"/>
          <a:stretch/>
        </p:blipFill>
        <p:spPr>
          <a:xfrm>
            <a:off x="5105520" y="2209680"/>
            <a:ext cx="352080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slamic Civiliz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657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lam arose in the Arabian penins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Muslim success: Arabs were strong fighters, enemies were weak (Byzantine &amp; Persian empires), they were united in the faith, and rulers treated the conquered peoples fai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http://www.rowan.edu/history/BLAKE/Image6.gif"/>
          <p:cNvPicPr/>
          <p:nvPr/>
        </p:nvPicPr>
        <p:blipFill>
          <a:blip r:embed="rId1"/>
          <a:stretch/>
        </p:blipFill>
        <p:spPr>
          <a:xfrm>
            <a:off x="5257800" y="1981080"/>
            <a:ext cx="2857680" cy="31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slamic Civiliz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4191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den Age contribu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rved Greco-Roman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i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ques and pa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rature – poetry, tal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ousand and One Nigh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s –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http://www.rowan.edu/history/BLAKE/Image6.gif"/>
          <p:cNvPicPr/>
          <p:nvPr/>
        </p:nvPicPr>
        <p:blipFill>
          <a:blip r:embed="rId1"/>
          <a:stretch/>
        </p:blipFill>
        <p:spPr>
          <a:xfrm>
            <a:off x="5486400" y="2209680"/>
            <a:ext cx="2857680" cy="31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slamic Civiliz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usaders from Western Europe came into contact with Muslims in the Holy Lands, which encouraged cultural diffusion &amp; lasting feelings of distrust between the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5" descr="http://www.genealogysource.com/crusades.jpg"/>
          <p:cNvPicPr/>
          <p:nvPr/>
        </p:nvPicPr>
        <p:blipFill>
          <a:blip r:embed="rId1"/>
          <a:stretch/>
        </p:blipFill>
        <p:spPr>
          <a:xfrm>
            <a:off x="4821120" y="2057400"/>
            <a:ext cx="3411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http://vlib.iue.it/history/med/Medieval.gif"/>
          <p:cNvPicPr/>
          <p:nvPr/>
        </p:nvPicPr>
        <p:blipFill>
          <a:blip r:embed="rId1"/>
          <a:stretch/>
        </p:blipFill>
        <p:spPr>
          <a:xfrm>
            <a:off x="2743200" y="304920"/>
            <a:ext cx="4035600" cy="2239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Michaelmas"/>
              </a:rPr>
              <a:t>500-1400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llapse of Rome in 476 left Western Europe with no central government and basically in cha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udalism and manorialism develo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ristian Church was the one institution that remained intact &amp; it played a humongous role in people’s l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edieval Europ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magne (742-814), king of the Franks, built an empire that included France, Germany, and part of 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e Leo III crowned Charlemagne King of the Romans – a popular f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magne encouraged education &amp; helped spread Christia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8" descr="http://www.adam-carr.net/charlemagne.jpg"/>
          <p:cNvPicPr/>
          <p:nvPr/>
        </p:nvPicPr>
        <p:blipFill>
          <a:blip r:embed="rId1"/>
          <a:stretch/>
        </p:blipFill>
        <p:spPr>
          <a:xfrm>
            <a:off x="5486400" y="1066680"/>
            <a:ext cx="2982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312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eud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9" name="Picture 5" descr="http://www.willamette.edu/~sbasu/poli212/Rousseau1_files/image006.gif"/>
          <p:cNvPicPr/>
          <p:nvPr/>
        </p:nvPicPr>
        <p:blipFill>
          <a:blip r:embed="rId1"/>
          <a:stretch/>
        </p:blipFill>
        <p:spPr>
          <a:xfrm>
            <a:off x="3886200" y="304920"/>
            <a:ext cx="48639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Crusades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juk Turks (Muslims) invaded the Byzantine Empire and conquered Palestine in the 105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96 – Pope Urban II called on Christians to recover the Holy Lands and expel the Musl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8" descr="http://www.kena.org/hirams/Pictures/Historical/Maps/Crusades.jpg"/>
          <p:cNvPicPr/>
          <p:nvPr/>
        </p:nvPicPr>
        <p:blipFill>
          <a:blip r:embed="rId1"/>
          <a:stretch/>
        </p:blipFill>
        <p:spPr>
          <a:xfrm>
            <a:off x="3886200" y="2311560"/>
            <a:ext cx="48196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Crusad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e Urban II also hoped to win favor with Eastern Orthodox Christians so they would rejoin the Roman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usaders were looking for adven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or were looking to escape the hardships of feudalism and constant figh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6" descr="http://www.adambennington.com/military_orders/images/battle.jpg"/>
          <p:cNvPicPr/>
          <p:nvPr/>
        </p:nvPicPr>
        <p:blipFill>
          <a:blip r:embed="rId1"/>
          <a:stretch/>
        </p:blipFill>
        <p:spPr>
          <a:xfrm>
            <a:off x="4800600" y="1981080"/>
            <a:ext cx="366876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Crusad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he first of four Crusades in 1099 was successful in regaining control of Jerusalem. Christians slaughtered Muslims and Jews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8" descr="http://members.aol.com/KCC1TIM/crusades.jpg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ttp://www.theislamproject.org/images/crusades_final.jpg"/>
          <p:cNvPicPr/>
          <p:nvPr/>
        </p:nvPicPr>
        <p:blipFill>
          <a:blip r:embed="rId1"/>
          <a:stretch/>
        </p:blipFill>
        <p:spPr>
          <a:xfrm>
            <a:off x="990720" y="1143000"/>
            <a:ext cx="761976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Big names of early civilization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gypti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d along the fertile Nile R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the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raoh considered a god/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ct social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contributions, inclu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ogly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en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http://images.google.com/images?q=tbn:mgMAYXF7gW8J:www.artlex.com/ArtLex/m/images/mask_tut.lg.jpg"/>
          <p:cNvPicPr/>
          <p:nvPr/>
        </p:nvPicPr>
        <p:blipFill>
          <a:blip r:embed="rId1"/>
          <a:stretch/>
        </p:blipFill>
        <p:spPr>
          <a:xfrm>
            <a:off x="6858000" y="3429000"/>
            <a:ext cx="1703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Crusad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 Crusades became more aimed at personal enrichment, not religious z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adin united Muslims and regained Jerusalem in late 1100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urth Crusade – looted Byzan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6" descr="http://www.unf.edu/classes/crusades/image/crusaderstakingjerusalem.jpg"/>
          <p:cNvPicPr/>
          <p:nvPr/>
        </p:nvPicPr>
        <p:blipFill>
          <a:blip r:embed="rId1"/>
          <a:stretch/>
        </p:blipFill>
        <p:spPr>
          <a:xfrm>
            <a:off x="5105520" y="1676520"/>
            <a:ext cx="3133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21304"/>
                </a:solidFill>
                <a:latin typeface="Times New Roman"/>
              </a:rPr>
              <a:t>A little known crusa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4" name="Picture 6" descr="http://gednet.com/blog/media/1/20040309-Ice%20Crusades.jpg"/>
          <p:cNvPicPr/>
          <p:nvPr/>
        </p:nvPicPr>
        <p:blipFill>
          <a:blip r:embed="rId1"/>
          <a:stretch/>
        </p:blipFill>
        <p:spPr>
          <a:xfrm>
            <a:off x="2971800" y="1905120"/>
            <a:ext cx="33498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mpact of the Crusad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trade between east and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wakened Europeans to lost knowledge preserved by Muslims and Byzantine Emp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power of monarchs &amp; weakened feud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ing distrust between Muslims and Christ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ked the Age of Exploration &amp; Rena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6" descr="http://www.a2armory.com/images/1-med-shields/crusades-sca.jpg"/>
          <p:cNvPicPr/>
          <p:nvPr/>
        </p:nvPicPr>
        <p:blipFill>
          <a:blip r:embed="rId1"/>
          <a:stretch/>
        </p:blipFill>
        <p:spPr>
          <a:xfrm>
            <a:off x="5410080" y="1752480"/>
            <a:ext cx="293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Big names of early civilization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d between the Tigris &amp; Euphrates Rivers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ertile Cr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http://www.projetoockham.org/figuras/astrologia/mesopotamia.jpg"/>
          <p:cNvPicPr/>
          <p:nvPr/>
        </p:nvPicPr>
        <p:blipFill>
          <a:blip r:embed="rId1"/>
          <a:stretch/>
        </p:blipFill>
        <p:spPr>
          <a:xfrm>
            <a:off x="1981080" y="3132000"/>
            <a:ext cx="525780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Big names of early civilization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ers provided excellent farm land &amp; easy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ltural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civilizations developed in this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eri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theistic – built ziggur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neiform – wedge shaped writing in c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yri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i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bylonians -Hammurabi’s Code of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ttites – mined iron ore, made plows, weap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ydians – coined 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esopotam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http://www.colorado.edu/geography/courses/geog_1982_s05/mesopotamia.jpg"/>
          <p:cNvPicPr/>
          <p:nvPr/>
        </p:nvPicPr>
        <p:blipFill>
          <a:blip r:embed="rId1"/>
          <a:stretch/>
        </p:blipFill>
        <p:spPr>
          <a:xfrm>
            <a:off x="2057400" y="1600200"/>
            <a:ext cx="59245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ther River Valley Civiliza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 Val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a – river valleys of the Huang He (Yellow River), and the Yangz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ed themsel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dle King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ynas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ten language – 2000 BC – pictographs &amp; ideo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ical Civiliza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date of Heaven &amp; the dynastic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ng, Zhou, Shi, Qin, Han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accomplishments &amp; con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rig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tronomy &amp; calen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lk &amp; porcel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vil Servic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per, wheelbarrow, rudder for ships, herbal remedi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1T15:34:31Z</dcterms:created>
  <dc:creator>Susan Vanderpool</dc:creator>
  <dc:description/>
  <dc:language>en-US</dc:language>
  <cp:lastModifiedBy>Administrator</cp:lastModifiedBy>
  <dcterms:modified xsi:type="dcterms:W3CDTF">2013-06-03T13:31:54Z</dcterms:modified>
  <cp:revision>18</cp:revision>
  <dc:subject/>
  <dc:title>Global History &amp; Geography Review – Unit 1  Ancient Civilizations &amp; Religions</dc:title>
</cp:coreProperties>
</file>